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742-EBD3-48C4-8516-B3686A9C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297-AA0B-4EE9-84C8-B048E667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F60-C619-438B-BC65-C0E83431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471-02AB-4232-ADE4-0A465C47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0DD-4D7E-4919-B1E5-EFA90CA8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0C1-6050-4AC4-A949-56C5B9C2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0D1-786D-4948-B2A4-5FC1D077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AF4-670F-44C9-928F-6ECC20A5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7A3-0836-45BF-92D4-07F62818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E47-BC11-44A5-B202-C0A4B158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BDF-D713-4EE2-ADDE-76427CDE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4E9-DE43-405C-9EF2-02E9F3F7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95A5-FD00-41F7-9FD6-57A1DE3B75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4A Time series and trend lin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main purpose of a time series is to see how a quantity varies with tim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Many types of trend exist, but in Further Maths we shall be looking at four types: secular, seasonal, cyclic, and random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ecular trend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a trend appears to be either increasing or decreasing, with no major change of direction, this is known as a secular tren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t is important to look at the data over a long period to confirm whether it is secula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easonal trend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ome data fluctuates during the year as the seasons change. Most obviously the weathe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easonal does not have to refer to the seasons of a year, e.g. Sales at a fast-food store might be higher on weekends. Here the days of the week are the season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yclic trend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yclic trends show fluctuations upwards and downwards but not according to seasons. There is no regular periods between peaks, e.g sales of new technology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Random trend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rends occur at random and are unpredictab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Plotting time seri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ime-series plots are similar to scatterplots, with these difference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independent variable is always tim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periods are often labels and not numerical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points are connected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the periods are labels, then we need to set up an “association table” when plotting data in a CAS calculato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s, Ex 4A: 7, 8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4A: 1 to 5, 9 to 1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9:30:27Z</dcterms:created>
  <dc:creator>08843474</dc:creator>
  <dc:description/>
  <dc:language>en-US</dc:language>
  <cp:lastModifiedBy>08843474</cp:lastModifiedBy>
  <dcterms:modified xsi:type="dcterms:W3CDTF">2011-03-19T19:52:05Z</dcterms:modified>
  <cp:revision>1</cp:revision>
  <dc:subject/>
  <dc:title>Time series</dc:title>
</cp:coreProperties>
</file>